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1B5-F0FE-4242-87C4-3A8A6E99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008-5C55-454E-8234-B4497985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98D-1055-4848-B714-8BE0DF25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5C1-CF9C-4240-8FB1-011D43CA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105-51E9-4DB2-AB46-FE295EC2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128-DE6B-4BC5-AAB0-B71BD969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F35-7862-4281-BE40-8F8EBB3E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99D-15C8-4F9E-B8B2-5168D7D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EED-62FB-4820-95DB-26995F58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2D5-26CC-49E0-8EA5-A6870467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B38-F0EA-46C8-952C-32C7043E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8ED-4D7C-44DF-9875-20075A1D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C59D-A42D-48B9-94C6-8C13FF509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257800"/>
            <a:ext cx="79246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 Car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8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#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457200"/>
            <a:ext cx="7239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Old Indian village meets Technology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458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03:27Z</dcterms:created>
  <dc:creator>install</dc:creator>
  <dc:description/>
  <dc:language>en-US</dc:language>
  <cp:lastModifiedBy>install</cp:lastModifiedBy>
  <dcterms:modified xsi:type="dcterms:W3CDTF">2010-03-08T20:21:13Z</dcterms:modified>
  <cp:revision>2</cp:revision>
  <dc:subject/>
  <dc:title>Slide 1</dc:title>
</cp:coreProperties>
</file>